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gif" ContentType="image/gif"/>
  <Override PartName="/ppt/media/image5.wmf" ContentType="image/x-wmf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251C-DEAC-48CD-97CF-C14DA0F48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0F21-EE2B-4E6E-87D6-F8D2A63F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81E1-D85B-462A-847D-81282710C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7395-1B60-4525-90B3-FCD213458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C94A-0FA0-40AB-B62F-04CA3ED6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43AC-78CE-4027-B901-40FC4400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6E9F-9D61-44E2-9934-2879EE2F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49BB-AD6B-4CA1-A10D-CB1BFDD1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A230-4D5C-45D3-89F5-01BCE9CF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2B38-6155-4FA4-AF2F-45FC56B0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8043-B97A-455F-A321-C522F47E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12AD-47B4-49EE-A9A3-7C2FE54D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D3DB-8236-4318-9BF2-91171412B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00"/>
                </a:solidFill>
                <a:latin typeface="Times New Roman"/>
              </a:rPr>
              <a:t>People of Mountains and Plai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33"/>
                </a:solidFill>
                <a:latin typeface="Times New Roman"/>
              </a:rPr>
              <a:t>Comanc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C:\Program Files\Microsoft Office\Clipart\homeanim\AG00213_.gif"/>
          <p:cNvPicPr/>
          <p:nvPr/>
        </p:nvPicPr>
        <p:blipFill>
          <a:blip r:embed="rId1"/>
          <a:stretch/>
        </p:blipFill>
        <p:spPr>
          <a:xfrm>
            <a:off x="533520" y="4267080"/>
            <a:ext cx="2514600" cy="1622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Program Files\Microsoft Office\Clipart\homeanim\AG00213_.gif"/>
          <p:cNvPicPr/>
          <p:nvPr/>
        </p:nvPicPr>
        <p:blipFill>
          <a:blip r:embed="rId2"/>
          <a:stretch/>
        </p:blipFill>
        <p:spPr>
          <a:xfrm>
            <a:off x="6324480" y="4343400"/>
            <a:ext cx="2362320" cy="152568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6">
            <a:hlinkClick r:id="" action="ppaction://hlinkshowjump?jump=nextslide"/>
          </p:cNvPr>
          <p:cNvSpPr/>
          <p:nvPr/>
        </p:nvSpPr>
        <p:spPr>
          <a:xfrm>
            <a:off x="8558280" y="5867280"/>
            <a:ext cx="585720" cy="60984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609840"/>
              <a:gd name="textAreaBottom" fmla="*/ 572040 h 609840"/>
            </a:gdLst>
            <a:ahLst/>
            <a:rect l="textAreaLeft" t="textAreaTop" r="textAreaRight" b="textAreaBottom"/>
            <a:pathLst>
              <a:path w="21600" h="22489">
                <a:moveTo>
                  <a:pt x="0" y="0"/>
                </a:moveTo>
                <a:lnTo>
                  <a:pt x="21600" y="0"/>
                </a:lnTo>
                <a:lnTo>
                  <a:pt x="21600" y="22489"/>
                </a:lnTo>
                <a:lnTo>
                  <a:pt x="0" y="22489"/>
                </a:lnTo>
                <a:close/>
              </a:path>
              <a:path fill="lightenLess" w="21600" h="224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89">
                <a:moveTo>
                  <a:pt x="21600" y="0"/>
                </a:moveTo>
                <a:lnTo>
                  <a:pt x="21600" y="22489"/>
                </a:lnTo>
                <a:lnTo>
                  <a:pt x="20200" y="21089"/>
                </a:lnTo>
                <a:lnTo>
                  <a:pt x="20200" y="1400"/>
                </a:lnTo>
                <a:close/>
              </a:path>
              <a:path fill="darkenLess" w="21600" h="22489">
                <a:moveTo>
                  <a:pt x="21600" y="22489"/>
                </a:moveTo>
                <a:lnTo>
                  <a:pt x="0" y="22489"/>
                </a:lnTo>
                <a:lnTo>
                  <a:pt x="1400" y="21089"/>
                </a:lnTo>
                <a:lnTo>
                  <a:pt x="20200" y="21089"/>
                </a:lnTo>
                <a:close/>
              </a:path>
              <a:path fill="lighten" w="21600" h="22489">
                <a:moveTo>
                  <a:pt x="0" y="224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89"/>
                </a:lnTo>
                <a:close/>
              </a:path>
              <a:path fill="darken" w="21600" h="22489">
                <a:moveTo>
                  <a:pt x="3794" y="4238"/>
                </a:moveTo>
                <a:lnTo>
                  <a:pt x="17806" y="11244"/>
                </a:lnTo>
                <a:lnTo>
                  <a:pt x="3794" y="18251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are they today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1875 Comanches no longer controlled the plai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anches were moved to a reservation in Oklahom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day about 10,000 Comanche live in the United Sta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anc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Comanches were fierce warriors who lived on the Southern Plai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Comanches controlled the Great Plains and Central Plains of Tex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9" descr="C:\Program Files\Microsoft Office\Clipart\WebArt\BD13728_.GIF"/>
          <p:cNvPicPr/>
          <p:nvPr/>
        </p:nvPicPr>
        <p:blipFill>
          <a:blip r:embed="rId1"/>
          <a:stretch/>
        </p:blipFill>
        <p:spPr>
          <a:xfrm>
            <a:off x="5867280" y="2286000"/>
            <a:ext cx="2819520" cy="380988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10">
            <a:hlinkClick r:id="" action="ppaction://hlinkshowjump?jump=nextslide"/>
          </p:cNvPr>
          <p:cNvSpPr/>
          <p:nvPr/>
        </p:nvSpPr>
        <p:spPr>
          <a:xfrm>
            <a:off x="838188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2" descr="Texas Indians"/>
          <p:cNvPicPr/>
          <p:nvPr/>
        </p:nvPicPr>
        <p:blipFill>
          <a:blip r:embed="rId2"/>
          <a:stretch/>
        </p:blipFill>
        <p:spPr>
          <a:xfrm>
            <a:off x="1219320" y="1523880"/>
            <a:ext cx="6476760" cy="362160"/>
          </a:xfrm>
          <a:prstGeom prst="rect">
            <a:avLst/>
          </a:prstGeom>
          <a:ln w="0">
            <a:noFill/>
          </a:ln>
        </p:spPr>
      </p:pic>
      <p:pic>
        <p:nvPicPr>
          <p:cNvPr id="51" name="JNGLE_01.mi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l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anches were noma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lived in tep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pees- large tents made of long poles covered with buffalo hi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7" descr="C:\Program Files\Microsoft Office\Clipart\standard\stddir1\BD06437_.WMF"/>
          <p:cNvPicPr/>
          <p:nvPr/>
        </p:nvPicPr>
        <p:blipFill>
          <a:blip r:embed="rId1"/>
          <a:stretch/>
        </p:blipFill>
        <p:spPr>
          <a:xfrm>
            <a:off x="4648320" y="1676520"/>
            <a:ext cx="3809880" cy="441936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8">
            <a:hlinkClick r:id="" action="ppaction://hlinkshowjump?jump=nextslide"/>
          </p:cNvPr>
          <p:cNvSpPr/>
          <p:nvPr/>
        </p:nvSpPr>
        <p:spPr>
          <a:xfrm>
            <a:off x="8381880" y="5943600"/>
            <a:ext cx="762120" cy="662040"/>
          </a:xfrm>
          <a:custGeom>
            <a:avLst/>
            <a:gdLst>
              <a:gd name="textAreaLeft" fmla="*/ 42840 w 762120"/>
              <a:gd name="textAreaRight" fmla="*/ 719280 w 7621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863" h="21600">
                <a:moveTo>
                  <a:pt x="0" y="0"/>
                </a:moveTo>
                <a:lnTo>
                  <a:pt x="24863" y="0"/>
                </a:lnTo>
                <a:lnTo>
                  <a:pt x="24863" y="21600"/>
                </a:lnTo>
                <a:lnTo>
                  <a:pt x="0" y="21600"/>
                </a:lnTo>
                <a:close/>
              </a:path>
              <a:path fill="lightenLess" w="24863" h="21600">
                <a:moveTo>
                  <a:pt x="0" y="0"/>
                </a:moveTo>
                <a:lnTo>
                  <a:pt x="24863" y="0"/>
                </a:lnTo>
                <a:lnTo>
                  <a:pt x="23463" y="1400"/>
                </a:lnTo>
                <a:lnTo>
                  <a:pt x="1400" y="1400"/>
                </a:lnTo>
                <a:close/>
              </a:path>
              <a:path fill="darken" w="24863" h="21600">
                <a:moveTo>
                  <a:pt x="24863" y="0"/>
                </a:moveTo>
                <a:lnTo>
                  <a:pt x="24863" y="21600"/>
                </a:lnTo>
                <a:lnTo>
                  <a:pt x="23463" y="20200"/>
                </a:lnTo>
                <a:lnTo>
                  <a:pt x="23463" y="1400"/>
                </a:lnTo>
                <a:close/>
              </a:path>
              <a:path fill="darkenLess" w="24863" h="21600">
                <a:moveTo>
                  <a:pt x="248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63" y="20200"/>
                </a:lnTo>
                <a:close/>
              </a:path>
              <a:path fill="lighten" w="248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63" h="21600">
                <a:moveTo>
                  <a:pt x="5425" y="3794"/>
                </a:moveTo>
                <a:lnTo>
                  <a:pt x="19438" y="10800"/>
                </a:lnTo>
                <a:lnTo>
                  <a:pt x="5425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0" descr="Texas Indians"/>
          <p:cNvPicPr/>
          <p:nvPr/>
        </p:nvPicPr>
        <p:blipFill>
          <a:blip r:embed="rId2"/>
          <a:stretch/>
        </p:blipFill>
        <p:spPr>
          <a:xfrm>
            <a:off x="1371600" y="1219320"/>
            <a:ext cx="6477120" cy="36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ffa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anche got nearly everything they needed from the buffa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Clo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Blan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Shel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0" y="2378160"/>
            <a:ext cx="7292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6" descr="Comanche Indian"/>
          <p:cNvPicPr/>
          <p:nvPr/>
        </p:nvPicPr>
        <p:blipFill>
          <a:blip r:embed="rId1"/>
          <a:stretch/>
        </p:blipFill>
        <p:spPr>
          <a:xfrm>
            <a:off x="1981080" y="1600200"/>
            <a:ext cx="5121360" cy="285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Comanche Indian Village"/>
          <p:cNvPicPr/>
          <p:nvPr/>
        </p:nvPicPr>
        <p:blipFill>
          <a:blip r:embed="rId2"/>
          <a:stretch/>
        </p:blipFill>
        <p:spPr>
          <a:xfrm>
            <a:off x="0" y="2057400"/>
            <a:ext cx="5334120" cy="380988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15">
            <a:hlinkClick r:id="" action="ppaction://hlinkshowjump?jump=nextslide"/>
          </p:cNvPr>
          <p:cNvSpPr/>
          <p:nvPr/>
        </p:nvSpPr>
        <p:spPr>
          <a:xfrm>
            <a:off x="8229600" y="5943600"/>
            <a:ext cx="662040" cy="66204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r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nish brought horses to North Amer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anches became experts at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ibe quickly became known as th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ords of the Southern Plains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they by far were the most powerful of all the Indian Tribes in the state. </a:t>
            </a:r>
            <a:br>
              <a:rPr sz="32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7" descr="Comanche Indian Warrior"/>
          <p:cNvPicPr/>
          <p:nvPr/>
        </p:nvPicPr>
        <p:blipFill>
          <a:blip r:embed="rId1"/>
          <a:stretch/>
        </p:blipFill>
        <p:spPr>
          <a:xfrm>
            <a:off x="5334120" y="2133720"/>
            <a:ext cx="3809880" cy="33861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8">
            <a:hlinkClick r:id="" action="ppaction://hlinkshowjump?jump=nextslide"/>
          </p:cNvPr>
          <p:cNvSpPr/>
          <p:nvPr/>
        </p:nvSpPr>
        <p:spPr>
          <a:xfrm>
            <a:off x="8153280" y="5943600"/>
            <a:ext cx="738360" cy="662040"/>
          </a:xfrm>
          <a:custGeom>
            <a:avLst/>
            <a:gdLst>
              <a:gd name="textAreaLeft" fmla="*/ 42840 w 738360"/>
              <a:gd name="textAreaRight" fmla="*/ 695520 w 73836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089" h="21600">
                <a:moveTo>
                  <a:pt x="0" y="0"/>
                </a:moveTo>
                <a:lnTo>
                  <a:pt x="24089" y="0"/>
                </a:lnTo>
                <a:lnTo>
                  <a:pt x="24089" y="21600"/>
                </a:lnTo>
                <a:lnTo>
                  <a:pt x="0" y="21600"/>
                </a:lnTo>
                <a:close/>
              </a:path>
              <a:path fill="lightenLess" w="24089" h="21600">
                <a:moveTo>
                  <a:pt x="0" y="0"/>
                </a:moveTo>
                <a:lnTo>
                  <a:pt x="24089" y="0"/>
                </a:lnTo>
                <a:lnTo>
                  <a:pt x="22689" y="1400"/>
                </a:lnTo>
                <a:lnTo>
                  <a:pt x="1400" y="1400"/>
                </a:lnTo>
                <a:close/>
              </a:path>
              <a:path fill="darken" w="24089" h="21600">
                <a:moveTo>
                  <a:pt x="24089" y="0"/>
                </a:moveTo>
                <a:lnTo>
                  <a:pt x="24089" y="21600"/>
                </a:lnTo>
                <a:lnTo>
                  <a:pt x="22689" y="20200"/>
                </a:lnTo>
                <a:lnTo>
                  <a:pt x="22689" y="1400"/>
                </a:lnTo>
                <a:close/>
              </a:path>
              <a:path fill="darkenLess" w="24089" h="21600">
                <a:moveTo>
                  <a:pt x="24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89" y="20200"/>
                </a:lnTo>
                <a:close/>
              </a:path>
              <a:path fill="lighten" w="24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89" h="21600">
                <a:moveTo>
                  <a:pt x="5038" y="3794"/>
                </a:moveTo>
                <a:lnTo>
                  <a:pt x="19051" y="10800"/>
                </a:lnTo>
                <a:lnTo>
                  <a:pt x="5038" y="17806"/>
                </a:lnTo>
                <a:close/>
              </a:path>
            </a:pathLst>
          </a:cu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9" descr="Texas Indians"/>
          <p:cNvPicPr/>
          <p:nvPr/>
        </p:nvPicPr>
        <p:blipFill>
          <a:blip r:embed="rId2"/>
          <a:stretch/>
        </p:blipFill>
        <p:spPr>
          <a:xfrm>
            <a:off x="1219320" y="838080"/>
            <a:ext cx="6476760" cy="3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uring times of peace, Comanches traded horses and buffalo goods with the Caddo and the Wichit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0" y="3813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8" descr="Texas Indians"/>
          <p:cNvPicPr/>
          <p:nvPr/>
        </p:nvPicPr>
        <p:blipFill>
          <a:blip r:embed="rId1"/>
          <a:stretch/>
        </p:blipFill>
        <p:spPr>
          <a:xfrm>
            <a:off x="1905120" y="1523880"/>
            <a:ext cx="5121000" cy="285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Texas Buffalo"/>
          <p:cNvPicPr/>
          <p:nvPr/>
        </p:nvPicPr>
        <p:blipFill>
          <a:blip r:embed="rId2"/>
          <a:stretch/>
        </p:blipFill>
        <p:spPr>
          <a:xfrm>
            <a:off x="4648320" y="2776680"/>
            <a:ext cx="3809880" cy="252396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11">
            <a:hlinkClick r:id="" action="ppaction://hlinkshowjump?jump=nextslide"/>
          </p:cNvPr>
          <p:cNvSpPr/>
          <p:nvPr/>
        </p:nvSpPr>
        <p:spPr>
          <a:xfrm>
            <a:off x="8077320" y="6019920"/>
            <a:ext cx="662040" cy="585720"/>
          </a:xfrm>
          <a:custGeom>
            <a:avLst/>
            <a:gdLst>
              <a:gd name="textAreaLeft" fmla="*/ 37800 w 662040"/>
              <a:gd name="textAreaRight" fmla="*/ 624240 w 66204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4413" h="21600">
                <a:moveTo>
                  <a:pt x="0" y="0"/>
                </a:moveTo>
                <a:lnTo>
                  <a:pt x="24413" y="0"/>
                </a:lnTo>
                <a:lnTo>
                  <a:pt x="24413" y="21600"/>
                </a:lnTo>
                <a:lnTo>
                  <a:pt x="0" y="21600"/>
                </a:lnTo>
                <a:close/>
              </a:path>
              <a:path fill="lightenLess" w="24413" h="21600">
                <a:moveTo>
                  <a:pt x="0" y="0"/>
                </a:moveTo>
                <a:lnTo>
                  <a:pt x="24413" y="0"/>
                </a:lnTo>
                <a:lnTo>
                  <a:pt x="23013" y="1400"/>
                </a:lnTo>
                <a:lnTo>
                  <a:pt x="1400" y="1400"/>
                </a:lnTo>
                <a:close/>
              </a:path>
              <a:path fill="darken" w="24413" h="21600">
                <a:moveTo>
                  <a:pt x="24413" y="0"/>
                </a:moveTo>
                <a:lnTo>
                  <a:pt x="24413" y="21600"/>
                </a:lnTo>
                <a:lnTo>
                  <a:pt x="23013" y="20200"/>
                </a:lnTo>
                <a:lnTo>
                  <a:pt x="23013" y="1400"/>
                </a:lnTo>
                <a:close/>
              </a:path>
              <a:path fill="darkenLess" w="24413" h="21600">
                <a:moveTo>
                  <a:pt x="24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13" y="20200"/>
                </a:lnTo>
                <a:close/>
              </a:path>
              <a:path fill="lighten" w="24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13" h="21600">
                <a:moveTo>
                  <a:pt x="5200" y="3794"/>
                </a:moveTo>
                <a:lnTo>
                  <a:pt x="19213" y="10800"/>
                </a:lnTo>
                <a:lnTo>
                  <a:pt x="5200" y="17806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6172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Comanche were good traders and often went to trade fai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Comanche leaders often wore fine European clothes, with many silver conchos and fine leather boo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group always had a leader who was very skilled as a trader and diploma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C:\Program Files\Microsoft Office\Clipart\WebArt\BS00005A.gif"/>
          <p:cNvPicPr/>
          <p:nvPr/>
        </p:nvPicPr>
        <p:blipFill>
          <a:blip r:embed="rId1"/>
          <a:stretch/>
        </p:blipFill>
        <p:spPr>
          <a:xfrm>
            <a:off x="6629400" y="2209680"/>
            <a:ext cx="1981080" cy="227196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6">
            <a:hlinkClick r:id="" action="ppaction://hlinkshowjump?jump=nextslide"/>
          </p:cNvPr>
          <p:cNvSpPr/>
          <p:nvPr/>
        </p:nvSpPr>
        <p:spPr>
          <a:xfrm>
            <a:off x="8077320" y="5867280"/>
            <a:ext cx="738000" cy="662040"/>
          </a:xfrm>
          <a:custGeom>
            <a:avLst/>
            <a:gdLst>
              <a:gd name="textAreaLeft" fmla="*/ 42840 w 738000"/>
              <a:gd name="textAreaRight" fmla="*/ 695160 w 73800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077" h="21600">
                <a:moveTo>
                  <a:pt x="0" y="0"/>
                </a:moveTo>
                <a:lnTo>
                  <a:pt x="24077" y="0"/>
                </a:lnTo>
                <a:lnTo>
                  <a:pt x="24077" y="21600"/>
                </a:lnTo>
                <a:lnTo>
                  <a:pt x="0" y="21600"/>
                </a:lnTo>
                <a:close/>
              </a:path>
              <a:path fill="lightenLess" w="24077" h="21600">
                <a:moveTo>
                  <a:pt x="0" y="0"/>
                </a:moveTo>
                <a:lnTo>
                  <a:pt x="24077" y="0"/>
                </a:lnTo>
                <a:lnTo>
                  <a:pt x="22677" y="1400"/>
                </a:lnTo>
                <a:lnTo>
                  <a:pt x="1400" y="1400"/>
                </a:lnTo>
                <a:close/>
              </a:path>
              <a:path fill="darken" w="24077" h="21600">
                <a:moveTo>
                  <a:pt x="24077" y="0"/>
                </a:moveTo>
                <a:lnTo>
                  <a:pt x="24077" y="21600"/>
                </a:lnTo>
                <a:lnTo>
                  <a:pt x="22677" y="20200"/>
                </a:lnTo>
                <a:lnTo>
                  <a:pt x="22677" y="1400"/>
                </a:lnTo>
                <a:close/>
              </a:path>
              <a:path fill="darkenLess" w="24077" h="21600">
                <a:moveTo>
                  <a:pt x="24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77" y="20200"/>
                </a:lnTo>
                <a:close/>
              </a:path>
              <a:path fill="lighten" w="24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77" h="21600">
                <a:moveTo>
                  <a:pt x="5032" y="3794"/>
                </a:moveTo>
                <a:lnTo>
                  <a:pt x="19045" y="10800"/>
                </a:lnTo>
                <a:lnTo>
                  <a:pt x="5032" y="1780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ing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5029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roblem was most of what they had to sell or trade was stuff they had stole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y sold the stolen horses and women and children they had kidnapp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kidnapping for ransom would later get the Comanche in big trouble with the American settler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8" descr="Palo Duro Canyon Texas"/>
          <p:cNvPicPr/>
          <p:nvPr/>
        </p:nvPicPr>
        <p:blipFill>
          <a:blip r:embed="rId1"/>
          <a:stretch/>
        </p:blipFill>
        <p:spPr>
          <a:xfrm>
            <a:off x="5105520" y="2590920"/>
            <a:ext cx="4038480" cy="258768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9">
            <a:hlinkClick r:id="" action="ppaction://hlinkshowjump?jump=nextslide"/>
          </p:cNvPr>
          <p:cNvSpPr/>
          <p:nvPr/>
        </p:nvSpPr>
        <p:spPr>
          <a:xfrm>
            <a:off x="8077320" y="5638680"/>
            <a:ext cx="662040" cy="609840"/>
          </a:xfrm>
          <a:custGeom>
            <a:avLst/>
            <a:gdLst>
              <a:gd name="textAreaLeft" fmla="*/ 39240 w 662040"/>
              <a:gd name="textAreaRight" fmla="*/ 622800 w 6620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3448" h="21600">
                <a:moveTo>
                  <a:pt x="0" y="0"/>
                </a:moveTo>
                <a:lnTo>
                  <a:pt x="23448" y="0"/>
                </a:lnTo>
                <a:lnTo>
                  <a:pt x="23448" y="21600"/>
                </a:lnTo>
                <a:lnTo>
                  <a:pt x="0" y="21600"/>
                </a:lnTo>
                <a:close/>
              </a:path>
              <a:path fill="lightenLess" w="23448" h="21600">
                <a:moveTo>
                  <a:pt x="0" y="0"/>
                </a:moveTo>
                <a:lnTo>
                  <a:pt x="23448" y="0"/>
                </a:lnTo>
                <a:lnTo>
                  <a:pt x="22048" y="1400"/>
                </a:lnTo>
                <a:lnTo>
                  <a:pt x="1400" y="1400"/>
                </a:lnTo>
                <a:close/>
              </a:path>
              <a:path fill="darken" w="23448" h="21600">
                <a:moveTo>
                  <a:pt x="23448" y="0"/>
                </a:moveTo>
                <a:lnTo>
                  <a:pt x="23448" y="21600"/>
                </a:lnTo>
                <a:lnTo>
                  <a:pt x="22048" y="20200"/>
                </a:lnTo>
                <a:lnTo>
                  <a:pt x="22048" y="1400"/>
                </a:lnTo>
                <a:close/>
              </a:path>
              <a:path fill="darkenLess" w="23448" h="21600">
                <a:moveTo>
                  <a:pt x="234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48" y="20200"/>
                </a:lnTo>
                <a:close/>
              </a:path>
              <a:path fill="lighten" w="234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48" h="21600">
                <a:moveTo>
                  <a:pt x="4717" y="3794"/>
                </a:moveTo>
                <a:lnTo>
                  <a:pt x="18730" y="10800"/>
                </a:lnTo>
                <a:lnTo>
                  <a:pt x="4717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0" descr="Texas Indians"/>
          <p:cNvPicPr/>
          <p:nvPr/>
        </p:nvPicPr>
        <p:blipFill>
          <a:blip r:embed="rId2"/>
          <a:stretch/>
        </p:blipFill>
        <p:spPr>
          <a:xfrm>
            <a:off x="1295280" y="990720"/>
            <a:ext cx="6477120" cy="361800"/>
          </a:xfrm>
          <a:prstGeom prst="rect">
            <a:avLst/>
          </a:prstGeom>
          <a:ln w="0">
            <a:noFill/>
          </a:ln>
        </p:spPr>
      </p:pic>
      <p:pic>
        <p:nvPicPr>
          <p:cNvPr id="83" name="WNTER_01.mid" descr=""/>
          <p:cNvPicPr/>
          <p:nvPr/>
        </p:nvPicPr>
        <p:blipFill>
          <a:blip r:embed="rId3"/>
          <a:stretch/>
        </p:blipFill>
        <p:spPr>
          <a:xfrm>
            <a:off x="754380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anche traveled in bands and each band had a lea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ing wars and raids, bands united and chose a war chief to lead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5" descr="C:\Program Files\Microsoft Office\Clipart\standard\stddir1\AN01642_.wmf"/>
          <p:cNvPicPr/>
          <p:nvPr/>
        </p:nvPicPr>
        <p:blipFill>
          <a:blip r:embed="rId1"/>
          <a:stretch/>
        </p:blipFill>
        <p:spPr>
          <a:xfrm>
            <a:off x="4648320" y="2617920"/>
            <a:ext cx="3809880" cy="2840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Texas Indians"/>
          <p:cNvPicPr/>
          <p:nvPr/>
        </p:nvPicPr>
        <p:blipFill>
          <a:blip r:embed="rId2"/>
          <a:stretch/>
        </p:blipFill>
        <p:spPr>
          <a:xfrm>
            <a:off x="1219320" y="1523880"/>
            <a:ext cx="6476760" cy="36216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7">
            <a:hlinkClick r:id="" action="ppaction://hlinkshowjump?jump=nextslide"/>
          </p:cNvPr>
          <p:cNvSpPr/>
          <p:nvPr/>
        </p:nvSpPr>
        <p:spPr>
          <a:xfrm>
            <a:off x="7848720" y="5867280"/>
            <a:ext cx="814320" cy="662040"/>
          </a:xfrm>
          <a:custGeom>
            <a:avLst/>
            <a:gdLst>
              <a:gd name="textAreaLeft" fmla="*/ 42840 w 814320"/>
              <a:gd name="textAreaRight" fmla="*/ 771480 w 8143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6566" h="21600">
                <a:moveTo>
                  <a:pt x="0" y="0"/>
                </a:moveTo>
                <a:lnTo>
                  <a:pt x="26566" y="0"/>
                </a:lnTo>
                <a:lnTo>
                  <a:pt x="26566" y="21600"/>
                </a:lnTo>
                <a:lnTo>
                  <a:pt x="0" y="21600"/>
                </a:lnTo>
                <a:close/>
              </a:path>
              <a:path fill="lightenLess" w="26566" h="21600">
                <a:moveTo>
                  <a:pt x="0" y="0"/>
                </a:moveTo>
                <a:lnTo>
                  <a:pt x="26566" y="0"/>
                </a:lnTo>
                <a:lnTo>
                  <a:pt x="25166" y="1400"/>
                </a:lnTo>
                <a:lnTo>
                  <a:pt x="1400" y="1400"/>
                </a:lnTo>
                <a:close/>
              </a:path>
              <a:path fill="darken" w="26566" h="21600">
                <a:moveTo>
                  <a:pt x="26566" y="0"/>
                </a:moveTo>
                <a:lnTo>
                  <a:pt x="26566" y="21600"/>
                </a:lnTo>
                <a:lnTo>
                  <a:pt x="25166" y="20200"/>
                </a:lnTo>
                <a:lnTo>
                  <a:pt x="25166" y="1400"/>
                </a:lnTo>
                <a:close/>
              </a:path>
              <a:path fill="darkenLess" w="26566" h="21600">
                <a:moveTo>
                  <a:pt x="26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66" y="20200"/>
                </a:lnTo>
                <a:close/>
              </a:path>
              <a:path fill="lighten" w="26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66" h="21600">
                <a:moveTo>
                  <a:pt x="6276" y="3794"/>
                </a:moveTo>
                <a:lnTo>
                  <a:pt x="20289" y="10800"/>
                </a:lnTo>
                <a:lnTo>
                  <a:pt x="6276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23:37:49Z</dcterms:created>
  <dc:creator>BISD</dc:creator>
  <dc:description/>
  <dc:language>en-US</dc:language>
  <cp:lastModifiedBy>McKinney ISD</cp:lastModifiedBy>
  <dcterms:modified xsi:type="dcterms:W3CDTF">2013-10-01T17:19:21Z</dcterms:modified>
  <cp:revision>3</cp:revision>
  <dc:subject/>
  <dc:title>People of Mountains and Plains</dc:title>
</cp:coreProperties>
</file>